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245A7-C4B1-4958-B5CF-9F210090F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01C8E-995E-47BE-AB13-B94D5BB3D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BD539-4C9F-4F43-8A03-960E58F33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E8FC-7941-4173-B5F1-9AE24E2B3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99856-A14A-4E17-9AE7-FF19D1279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FE313-4DA8-48A1-BE89-CEC2579A4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02D7A-77D8-4193-9D47-59A50D706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956880" y="6244920"/>
            <a:ext cx="7729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2A8E529C-200E-4128-8256-5DAC335463B5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2"/>
          </p:nvPr>
        </p:nvSpPr>
        <p:spPr>
          <a:xfrm>
            <a:off x="668160" y="6244920"/>
            <a:ext cx="8018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E697B994-04CF-4F82-A0B3-CDC783A7899A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3"/>
          </p:nvPr>
        </p:nvSpPr>
        <p:spPr>
          <a:xfrm>
            <a:off x="696960" y="6244920"/>
            <a:ext cx="798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346ABAB0-FC31-42AC-9709-A97B7A16E093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89000" y="5790960"/>
            <a:ext cx="87660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. 14: Presentations with Graphics and Multimedia –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esson 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5032440" y="6566040"/>
            <a:ext cx="4111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, 2006 South-Western, Cengage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Planning Oral Presentation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784080" y="1600200"/>
            <a:ext cx="790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Talk or speech given to inform, persuade, and/or enter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planning a presentation, consi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pose of the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dience for the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to 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ual aids, such as slides &amp; posters you will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85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C227CEA7-7BF3-41F7-A7E5-C08953FD26CE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C:\Documents and Settings\Jean Bissell-Privett\Local Settings\Temporary Internet Files\Content.IE5\PGZZOALM\MCj03550110000[1].wmf"/>
          <p:cNvPicPr/>
          <p:nvPr/>
        </p:nvPicPr>
        <p:blipFill>
          <a:blip r:embed="rId1"/>
          <a:stretch/>
        </p:blipFill>
        <p:spPr>
          <a:xfrm>
            <a:off x="6988320" y="3355920"/>
            <a:ext cx="178596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Determining the Purpose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93200" y="1600200"/>
            <a:ext cx="7286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efore planning &amp; preparing, ask yoursel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goals of the present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?  Enterta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audience ideas or opin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urage audience to take some a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85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4C3858D3-B3E2-4989-88EF-8B28095215C9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7" descr="C:\Documents and Settings\Jean Bissell-Privett\Local Settings\Temporary Internet Files\Content.IE5\O40EWU60\MCj02380620000[1].wmf"/>
          <p:cNvPicPr/>
          <p:nvPr/>
        </p:nvPicPr>
        <p:blipFill>
          <a:blip r:embed="rId1"/>
          <a:stretch/>
        </p:blipFill>
        <p:spPr>
          <a:xfrm flipH="1">
            <a:off x="6764040" y="1979640"/>
            <a:ext cx="203364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Learning About the Audience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275760" y="1600200"/>
            <a:ext cx="805500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dience Profile: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escription of your audience – who will be listening to your present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the audience familiar with the topic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old is the audienc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e they open to new idea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e they likely to resist the action you want them to tak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e they listening by choice (or required to atten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85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FDA37BD7-D936-4354-8366-4B5B767C2B03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5" descr="C:\Documents and Settings\Jean Bissell-Privett\Local Settings\Temporary Internet Files\Content.IE5\B84JFXV6\MCj00903510000[1].wmf"/>
          <p:cNvPicPr/>
          <p:nvPr/>
        </p:nvPicPr>
        <p:blipFill>
          <a:blip r:embed="rId1"/>
          <a:stretch/>
        </p:blipFill>
        <p:spPr>
          <a:xfrm>
            <a:off x="6638760" y="2508120"/>
            <a:ext cx="210060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Developing the Conten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main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mplish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n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two or more supporting points for each main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only the most important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the order in which information is pres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85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F99FF70F-C926-4274-86FB-EE066392A6FE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C:\Documents and Settings\Jean Bissell-Privett\Local Settings\Temporary Internet Files\Content.IE5\LILAUYKO\MCj00787090000[1].wmf"/>
          <p:cNvPicPr/>
          <p:nvPr/>
        </p:nvPicPr>
        <p:blipFill>
          <a:blip r:embed="rId1"/>
          <a:stretch/>
        </p:blipFill>
        <p:spPr>
          <a:xfrm flipH="1">
            <a:off x="6865560" y="1650960"/>
            <a:ext cx="1957320" cy="23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Developing the Conten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1.  Purpose, 2.  Audience, Now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3.  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n outlin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85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6024C33B-F05C-41E8-9A23-82E9560C9B17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3" descr="C:\Documents and Settings\Jean Bissell-Privett\Local Settings\Temporary Internet Files\Content.IE5\MY95YL2K\MCj03977840000[1].wmf"/>
          <p:cNvPicPr/>
          <p:nvPr/>
        </p:nvPicPr>
        <p:blipFill>
          <a:blip r:embed="rId1"/>
          <a:stretch/>
        </p:blipFill>
        <p:spPr>
          <a:xfrm>
            <a:off x="7099200" y="1701720"/>
            <a:ext cx="1710000" cy="18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01:26:03Z</dcterms:created>
  <dc:creator>Jean Bissell</dc:creator>
  <dc:description>Copyright 2006 South-Western/Thomson</dc:description>
  <dc:language>en-US</dc:language>
  <cp:lastModifiedBy>Lenessa Keehn</cp:lastModifiedBy>
  <dcterms:modified xsi:type="dcterms:W3CDTF">2011-03-23T04:35:50Z</dcterms:modified>
  <cp:revision>18</cp:revision>
  <dc:subject/>
  <dc:title>Slide 1</dc:title>
</cp:coreProperties>
</file>